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EE354-09D1-46B1-BC1D-D08F4A114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21846-1AC4-4AB6-9504-59C125D1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62F0B-E069-4F4C-B470-FB5DC0A64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62A73-53A6-4DE9-97B4-2A8E6D55E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7C734-C895-4494-926D-30B0EB503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C1733-B844-46E6-A552-C15D3E319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438C6-92CE-4892-8A2B-C6975B796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5DD4-5050-4795-BB7C-A21E35835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8E19C-993E-447C-A9D5-D97B4F674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B1758-F7A2-488F-8BCE-26F4492F8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F1B7-23A2-438B-B100-A1E5B7C86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606B6-0BA1-4018-9B07-D2E268E40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6784C-A501-43B4-BFA7-73CA66982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9478-F3CA-49BB-9C88-DA86BF189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D901B-3B42-4697-85F4-0B0620834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77AAF-0525-4BD1-96C3-C8477C936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EB979-BFD5-4779-9C20-6C4B457AB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0A27C4-B507-42B4-BEBB-FDDD9C9FD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BC7A02-4C34-442A-991B-EEB1C6C9A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4F4C60-A23E-4FB2-B6EB-BF0DE5D48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42AADB-6DA4-4CD0-8841-30C7C6570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D005D5-76FB-4118-B69F-EDC4571C6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307C2-CE53-43BB-B077-399D730F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BA139B-5CD9-448B-9CED-6C60F7859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B618AF-A32D-430E-B780-F5C0DF77B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DA21B9-8F93-4E7E-A0CE-6AAA3AE90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521168-3158-4875-BC23-CFB79B5F8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864D18-D845-4E17-AC7F-02C5F4C57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3BEDD56-FD6B-413D-A555-24F8DC6AAC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368658-28E5-43A9-A16E-9513A835A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565594-CF7A-4935-988C-FC466D50E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84B2B8-12CA-434C-9B4E-78521D0D4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A86F7E-EEC8-42F8-B8CE-D3CA894DB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6865-C75B-49B8-8566-326C024B7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0A67BC-F504-4E68-BBA5-837A1F0CA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D00792-D865-4E67-A5E6-51648CDED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855833-70E8-44DA-9BC0-EBD1BC0AF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F6367B-E594-4FE0-A94D-E13AA250A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2555EB-B945-4916-841A-E0567E07A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BC7BB4-0F86-4A50-95ED-1DD401C09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4D486C-00D3-4519-881E-EE9C930E5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2D051C-0287-4649-BF5E-CA5279215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0DBC4A6-8FAE-48CC-947E-45C20C85E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B6AB347-D3EF-4078-BBFB-C3DD6DB9A2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CF45-A0DD-4E43-A56D-8C0594C7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F8AD75-3DC9-484B-97AF-B24166BC1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0A1345-2900-446D-897D-ACB97D07E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587F5A-AC8C-4896-ACC6-F473BB15F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54A167-1AFE-4A91-B70A-8DE48A655D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77B509-C6AA-4922-BCE0-E0918CE60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3E4290-5570-4CA5-9DA4-57813B402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6DDC1C-B928-4FB1-8029-EEC29B3AA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CE7427-2A1E-4B61-A611-883B4CE97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9277FE-554F-496F-898F-F933D263D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7EF352-521A-482F-9958-A07F10457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C09FC-0B87-4E39-8484-E0B98CBA8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3B5CF9-9A36-4B34-A646-89FCE3F4D4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2A41C-B84F-42CE-A0A1-8643A8E12B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5D30A-6293-4F45-8F84-669A1DBDB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E925D-81CC-4B36-B796-3B614BCFC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AF3C99-8F41-453E-AF0F-BF67A61B8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72685-A31B-4A8E-8191-053D32B86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3B9CC-A4A5-414F-9775-7E5AF26B0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34391-8703-463B-8950-C1DA60565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830D9-3651-498F-9E9D-3E279A2C7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9C972-248B-414F-AA2F-A305A5EB9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E077B-10E0-4758-9C0D-316DA654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61E73-3245-4BDA-94E0-E603FA5CA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DDCBBC-E011-4624-B4D1-47E50A569C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D4803D-DE32-4A7D-A965-14CAB51FDC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BB2192E-2282-425E-B2F9-504F3EF412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FB3B35-A0B0-4E99-9C5B-19C35FF43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6393A0-0251-48A7-9B32-FACEC557B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FE70ED-4236-4099-B00C-6503F820A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D0D079-D9BB-46AB-9D6F-F0D7BED39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A4D840-EE72-4196-9A69-377CAA2D9C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680B56-F6D0-46AB-8B14-D8196A9C8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6E4E-9777-47AF-9416-CFE789C5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F2780D-8F78-472E-B6F9-D816D640E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80BF85-8032-481C-8CD0-E7D1BBDE7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BC7F90-49B7-4A86-A142-F419B9D6A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3357D9B-5CD6-4185-884A-6D37D4A9EA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B9C9C9A-6FA8-45A9-BEEA-2509193874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2F6437-54C2-4B83-9EE1-6FC46D6286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517B1-FE98-4F5C-AEBD-EB49596E6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7DD7D-0060-4FCB-9FBC-90A976C57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3A2FF8-C3C6-4685-8C95-92290C898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DBA56C-4387-4D82-B8D7-2E1C7E9DD4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1A6F-F8CB-4B7E-8FBA-C155A074E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F6717-F73D-4A2B-A264-DBC9722E4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1FC20-CDF5-452A-B81A-BD4C4AA59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978D6-624F-4753-8E00-4D295AC07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95468-B292-4BE0-B229-5E20D528A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17FE9-6519-4DF0-BABB-1D6321F2A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14AABC-42F5-4846-BFFA-F947B69067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2DF81-2E03-4738-944E-033CD7F58F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706F-7263-412A-BCE2-6D4D2C6655D2}"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5962-5053-472F-9347-5466B9A20FC2}" type="slidenum">
              <a:rPr b="1" lang="en-AU"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A318-9714-4E08-B6E7-F60D901EFDF9}"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E20A-2880-4F71-9430-BB998454EF10}"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855-DFF1-4324-B541-9801B91F70C6}"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D072-48A9-4DD4-8AD9-8736B008A4DE}" type="slidenum">
              <a:rPr b="1" lang="en-AU"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081-A3D7-4478-9119-E7A331073DE8}"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5A0A-8941-49EC-B18B-D7F7E81BA7BD}"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library.thinkquest.org/26314/machiavellinf.htm" TargetMode="External"/><Relationship Id="rId2" Type="http://schemas.openxmlformats.org/officeDocument/2006/relationships/hyperlink" Target="http://library.thinkquest.org/26314/machiavellinf.htm" TargetMode="External"/><Relationship Id="rId3" Type="http://schemas.openxmlformats.org/officeDocument/2006/relationships/hyperlink" Target="http://library.thinkquest.org/26314/machiavellinf.htm" TargetMode="External"/><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600200" y="5486040"/>
            <a:ext cx="7315200" cy="685800"/>
          </a:xfrm>
          <a:prstGeom prst="rect">
            <a:avLst/>
          </a:prstGeom>
          <a:noFill/>
          <a:ln w="0">
            <a:noFill/>
          </a:ln>
        </p:spPr>
        <p:txBody>
          <a:bodyPr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Imprint MT Shadow"/>
              </a:rPr>
              <a:t>How to Write a Good Article</a:t>
            </a:r>
            <a:endParaRPr b="0" lang="en-US" sz="4000" spc="-1" strike="noStrike">
              <a:solidFill>
                <a:srgbClr val="000000"/>
              </a:solidFill>
              <a:latin typeface="Tw Cen MT"/>
            </a:endParaRPr>
          </a:p>
        </p:txBody>
      </p:sp>
      <p:sp>
        <p:nvSpPr>
          <p:cNvPr id="351"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Imprint MT Shadow"/>
              </a:rPr>
              <a:t>Feature Articles</a:t>
            </a:r>
            <a:endParaRPr b="0" lang="en-US" sz="4400" spc="-1" strike="noStrike">
              <a:solidFill>
                <a:srgbClr val="775f55"/>
              </a:solidFill>
              <a:latin typeface="Tw Cen MT"/>
            </a:endParaRPr>
          </a:p>
        </p:txBody>
      </p:sp>
      <p:pic>
        <p:nvPicPr>
          <p:cNvPr id="352" name="Picture Placeholder 5" descr="article.gif"/>
          <p:cNvPicPr/>
          <p:nvPr/>
        </p:nvPicPr>
        <p:blipFill>
          <a:blip r:embed="rId1"/>
          <a:srcRect l="0" t="19551" r="0" b="1955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94000"/>
          </a:bodyPr>
          <a:p>
            <a:pPr marL="299520" indent="-299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Imprint MT Shadow"/>
              </a:rPr>
              <a:t>Lead Paragraph</a:t>
            </a:r>
            <a:endParaRPr b="0" lang="en-US" sz="29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lead paragraph outlines the subject or theme of the article, it may also:</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rovoke the reader's interest by making an unusual statement.</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rovide any necessary background information.</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97000"/>
          </a:bodyPr>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Invite the reader to take sides by making a controversial statement.</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Heighten the drama of an event or incident to intensify its appeal.</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Establish the writer's tone.</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Create a relationship between the writer and the reader.</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75f55"/>
                </a:solidFill>
                <a:latin typeface="Imprint MT Shadow"/>
              </a:rPr>
              <a:t>Feature Articles – Sample Lead Paragraphs</a:t>
            </a:r>
            <a:endParaRPr b="0" lang="en-US" sz="3200" spc="-1" strike="noStrike">
              <a:solidFill>
                <a:srgbClr val="775f55"/>
              </a:solidFill>
              <a:latin typeface="Tw Cen MT"/>
            </a:endParaRPr>
          </a:p>
        </p:txBody>
      </p:sp>
      <p:sp>
        <p:nvSpPr>
          <p:cNvPr id="381" name=""/>
          <p:cNvSpPr txBox="1"/>
          <p:nvPr/>
        </p:nvSpPr>
        <p:spPr>
          <a:xfrm>
            <a:off x="609120" y="1589040"/>
            <a:ext cx="3886200" cy="4572000"/>
          </a:xfrm>
          <a:prstGeom prst="rect">
            <a:avLst/>
          </a:prstGeom>
          <a:noFill/>
          <a:ln w="0">
            <a:noFill/>
          </a:ln>
        </p:spPr>
        <p:txBody>
          <a:bodyPr anchor="t">
            <a:normAutofit fontScale="86000"/>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55d7e"/>
                </a:solidFill>
                <a:latin typeface="Britannic Bold"/>
              </a:rPr>
              <a:t>It has been nearly four hundred years since Shakespeare's fellow actors and theatrical partners, John Heminge and Henry Condell, addressed the First Folio of Shakespeare's collected works "To the great Variety of Readers. From the most able, to him that can but spell," yet those who know and love Shakespeare best are still trying to convince the mainstream populace that Shakespeare is for everyone. </a:t>
            </a:r>
            <a:endParaRPr b="0" lang="en-US" sz="2200" spc="-1" strike="noStrike">
              <a:solidFill>
                <a:srgbClr val="000000"/>
              </a:solidFill>
              <a:latin typeface="Tw Cen MT"/>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2" name=""/>
          <p:cNvSpPr txBox="1"/>
          <p:nvPr/>
        </p:nvSpPr>
        <p:spPr>
          <a:xfrm>
            <a:off x="4844520" y="1589040"/>
            <a:ext cx="3886200" cy="4983120"/>
          </a:xfrm>
          <a:prstGeom prst="rect">
            <a:avLst/>
          </a:prstGeom>
          <a:noFill/>
          <a:ln w="0">
            <a:noFill/>
          </a:ln>
        </p:spPr>
        <p:txBody>
          <a:bodyPr anchor="t">
            <a:normAutofit fontScale="94000"/>
          </a:bodyPr>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High-spirited and infectiously energetic, Al Pacino's "Looking for Richard" is a master class in Shakespeare and acting conducted by an uncommonly passionate and delightful teacher. Ranging from New York's streets to the reconstructed Globe Theatre in London, talking with everyone from strangers encountered by chance to scholars and celebrated actors, Pacino is the voluble, mercurial centre of a film that ingeniously interweaves commentary on Shakespeare with analysis of, rehearsals for and key segments from a "Richard III" on film.</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4" name="PlaceHolder 2"/>
          <p:cNvSpPr>
            <a:spLocks noGrp="1"/>
          </p:cNvSpPr>
          <p:nvPr>
            <p:ph/>
          </p:nvPr>
        </p:nvSpPr>
        <p:spPr>
          <a:xfrm>
            <a:off x="356760" y="1752480"/>
            <a:ext cx="2428920" cy="4748400"/>
          </a:xfrm>
          <a:prstGeom prst="rect">
            <a:avLst/>
          </a:prstGeom>
          <a:solidFill>
            <a:srgbClr val="dd8047"/>
          </a:solidFill>
          <a:ln cap="sq" w="50760">
            <a:solidFill>
              <a:srgbClr val="dd8047"/>
            </a:solidFill>
            <a:miter/>
          </a:ln>
        </p:spPr>
        <p:txBody>
          <a:bodyPr lIns="137160" rIns="137160" tIns="182880" bIns="91440" anchor="t">
            <a:normAutofit fontScale="95000"/>
          </a:bodyPr>
          <a:p>
            <a:pPr indent="0" algn="ctr">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Subject/Theme</a:t>
            </a:r>
            <a:endParaRPr b="0" lang="en-US" sz="2400" spc="-1" strike="noStrike">
              <a:solidFill>
                <a:srgbClr val="000000"/>
              </a:solidFill>
              <a:latin typeface="Tw Cen MT"/>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Your subject  and/or theme is the clothesline to which you will peg your:   </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Text quotes;</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Techniques; </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Interviews;</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Opinions; and</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Anecdotes.</a:t>
            </a:r>
            <a:endParaRPr b="0" lang="en-US" sz="2000" spc="-1" strike="noStrike">
              <a:solidFill>
                <a:srgbClr val="000000"/>
              </a:solidFill>
              <a:latin typeface="Tw Cen MT"/>
            </a:endParaRPr>
          </a:p>
        </p:txBody>
      </p:sp>
      <p:pic>
        <p:nvPicPr>
          <p:cNvPr id="385" name="Content Placeholder 4" descr="Hills hoist.jpg"/>
          <p:cNvPicPr/>
          <p:nvPr/>
        </p:nvPicPr>
        <p:blipFill>
          <a:blip r:embed="rId1"/>
          <a:stretch/>
        </p:blipFill>
        <p:spPr>
          <a:xfrm>
            <a:off x="3000240" y="1752480"/>
            <a:ext cx="5786640" cy="474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7" name=""/>
          <p:cNvSpPr txBox="1"/>
          <p:nvPr/>
        </p:nvSpPr>
        <p:spPr>
          <a:xfrm>
            <a:off x="214200" y="1600200"/>
            <a:ext cx="8715600" cy="4495680"/>
          </a:xfrm>
          <a:prstGeom prst="rect">
            <a:avLst/>
          </a:prstGeom>
          <a:noFill/>
          <a:ln w="0">
            <a:noFill/>
          </a:ln>
        </p:spPr>
        <p:txBody>
          <a:bodyPr anchor="t">
            <a:normAutofit fontScale="94000"/>
          </a:bodyPr>
          <a:p>
            <a:pPr marL="299520" indent="-299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Body Paragraphs</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body of the feature article consists of a number of paragraphs that expand on the main topic. These paragraphs should be sequenced in a logical order. The body can include any the following components:</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ub-headings;</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acts and statistics that support the writer's opinion;</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ersonal viewpoints;</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Opinions from authorities and expert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ody paragraphs continued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Quotes and interview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necdotes and storie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pecific names, places and dates; and</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n appropriate image(s).</a:t>
            </a: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 spin that grabs the readers so they connect with what you have writte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pic>
        <p:nvPicPr>
          <p:cNvPr id="391" name="Content Placeholder 5" descr="Face tattoo.jpg"/>
          <p:cNvPicPr/>
          <p:nvPr/>
        </p:nvPicPr>
        <p:blipFill>
          <a:blip r:embed="rId1"/>
          <a:stretch/>
        </p:blipFill>
        <p:spPr>
          <a:xfrm>
            <a:off x="214200" y="1785960"/>
            <a:ext cx="4626000" cy="4786200"/>
          </a:xfrm>
          <a:prstGeom prst="rect">
            <a:avLst/>
          </a:prstGeom>
          <a:ln w="0">
            <a:noFill/>
          </a:ln>
        </p:spPr>
      </p:pic>
      <p:sp>
        <p:nvSpPr>
          <p:cNvPr id="392" name=""/>
          <p:cNvSpPr txBox="1"/>
          <p:nvPr/>
        </p:nvSpPr>
        <p:spPr>
          <a:xfrm>
            <a:off x="4844520" y="1589040"/>
            <a:ext cx="3886200" cy="4572000"/>
          </a:xfrm>
          <a:prstGeom prst="rect">
            <a:avLst/>
          </a:prstGeom>
          <a:noFill/>
          <a:ln w="0">
            <a:noFill/>
          </a:ln>
        </p:spPr>
        <p:txBody>
          <a:bodyPr anchor="t">
            <a:normAutofit fontScale="92000"/>
          </a:bodyPr>
          <a:p>
            <a:pPr marL="293400" indent="-293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Conclusion </a:t>
            </a:r>
            <a:endParaRPr b="0" lang="en-US" sz="2400" spc="-1" strike="noStrike">
              <a:solidFill>
                <a:srgbClr val="000000"/>
              </a:solidFill>
              <a:latin typeface="Tw Cen MT"/>
            </a:endParaRPr>
          </a:p>
          <a:p>
            <a:pPr marL="293400" indent="-293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concluding paragraph should leave a lasting impression by:</a:t>
            </a:r>
            <a:endParaRPr b="0" lang="en-US" sz="2400" spc="-1" strike="noStrike">
              <a:solidFill>
                <a:srgbClr val="000000"/>
              </a:solidFill>
              <a:latin typeface="Tw Cen MT"/>
            </a:endParaRPr>
          </a:p>
          <a:p>
            <a:pPr marL="293400" indent="-293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Reminding the reader of the article's main idea;</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uggesting an appropriate course of action;</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Encouraging a change of attitude or opinion.</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54" name=""/>
          <p:cNvSpPr txBox="1"/>
          <p:nvPr/>
        </p:nvSpPr>
        <p:spPr>
          <a:xfrm>
            <a:off x="4844520" y="1589040"/>
            <a:ext cx="3886200" cy="4572000"/>
          </a:xfrm>
          <a:prstGeom prst="rect">
            <a:avLst/>
          </a:prstGeom>
          <a:noFill/>
          <a:ln w="0">
            <a:noFill/>
          </a:ln>
        </p:spPr>
        <p:txBody>
          <a:bodyPr anchor="t">
            <a:normAutofit fontScale="89000"/>
          </a:bodyPr>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feature article appears in a newspaper or magazine to inform, persuade or entertain the audience. </a:t>
            </a: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 articles are detailed pieces of writing that explore a range of issues, opinions, experiences and ideas. The purpose of a feature article will vary depending on the media it is meant for. </a:t>
            </a:r>
            <a:endParaRPr b="0" lang="en-US" sz="2400" spc="-1" strike="noStrike">
              <a:solidFill>
                <a:srgbClr val="000000"/>
              </a:solidFill>
              <a:latin typeface="Tw Cen MT"/>
            </a:endParaRPr>
          </a:p>
        </p:txBody>
      </p:sp>
      <p:pic>
        <p:nvPicPr>
          <p:cNvPr id="355" name="Content Placeholder 4" descr="article-marketing-writing.jpg"/>
          <p:cNvPicPr/>
          <p:nvPr/>
        </p:nvPicPr>
        <p:blipFill>
          <a:blip r:embed="rId1"/>
          <a:stretch/>
        </p:blipFill>
        <p:spPr>
          <a:xfrm>
            <a:off x="22320" y="1643040"/>
            <a:ext cx="4699080" cy="521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1000"/>
          </a:bodyPr>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feature article addresses social, cultural or political issues,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and is more detailed that news report.</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writer uses the feature article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to express his/her opinion on the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chosen subject matter.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 articles should appeal to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the particular audience the article</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is targeting.</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58" name="Picture 4" descr="Person writing.jpg"/>
          <p:cNvPicPr/>
          <p:nvPr/>
        </p:nvPicPr>
        <p:blipFill>
          <a:blip r:embed="rId1"/>
          <a:stretch/>
        </p:blipFill>
        <p:spPr>
          <a:xfrm>
            <a:off x="5500800" y="2714760"/>
            <a:ext cx="3246480" cy="324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4000"/>
          </a:bodyPr>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article writers are often regular contributors who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have particular expertise or interest in their subject or topic.</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endParaRPr b="0" lang="en-US" sz="24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rticle writers go beyond just the facts on the surface; they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add colour, detail, background and personal comment.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appeal of a feature article is usually the personal</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perspective on offer.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Imprint MT Shadow"/>
              </a:rPr>
              <a:t>“</a:t>
            </a:r>
            <a:r>
              <a:rPr b="0" lang="en-AU" sz="6000" spc="-1" strike="noStrike">
                <a:solidFill>
                  <a:srgbClr val="000000"/>
                </a:solidFill>
                <a:latin typeface="Imprint MT Shadow"/>
              </a:rPr>
              <a:t>Feature articles are not just dry facts; they provide story and information from a unique angle."</a:t>
            </a:r>
            <a:endParaRPr b="0" lang="en-US" sz="60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4" name=""/>
          <p:cNvSpPr txBox="1"/>
          <p:nvPr/>
        </p:nvSpPr>
        <p:spPr>
          <a:xfrm>
            <a:off x="3714840" y="1500120"/>
            <a:ext cx="501624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Steps To Writing A Feature Article</a:t>
            </a: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rainstorm idea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What’s the purpos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Research your topic.</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Grab the reader's attent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Keep that attent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eave an impress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5" name="Content Placeholder 6" descr="LeftRight dance steps.jpg"/>
          <p:cNvPicPr/>
          <p:nvPr/>
        </p:nvPicPr>
        <p:blipFill>
          <a:blip r:embed="rId1"/>
          <a:stretch/>
        </p:blipFill>
        <p:spPr>
          <a:xfrm>
            <a:off x="0" y="1571760"/>
            <a:ext cx="3745080" cy="52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pic>
        <p:nvPicPr>
          <p:cNvPr id="367" name="Content Placeholder 5" descr="clipart_construction_011.gif"/>
          <p:cNvPicPr/>
          <p:nvPr/>
        </p:nvPicPr>
        <p:blipFill>
          <a:blip r:embed="rId1"/>
          <a:stretch/>
        </p:blipFill>
        <p:spPr>
          <a:xfrm>
            <a:off x="5000760" y="1714680"/>
            <a:ext cx="3902040" cy="4902120"/>
          </a:xfrm>
          <a:prstGeom prst="rect">
            <a:avLst/>
          </a:prstGeom>
          <a:ln w="0">
            <a:noFill/>
          </a:ln>
        </p:spPr>
      </p:pic>
      <p:sp>
        <p:nvSpPr>
          <p:cNvPr id="368" name=""/>
          <p:cNvSpPr txBox="1"/>
          <p:nvPr/>
        </p:nvSpPr>
        <p:spPr>
          <a:xfrm>
            <a:off x="609120" y="1589040"/>
            <a:ext cx="4676760" cy="457200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Structure</a:t>
            </a:r>
            <a:endParaRPr b="0" lang="en-US" sz="2400" spc="-1" strike="noStrike">
              <a:solidFill>
                <a:srgbClr val="000000"/>
              </a:solidFill>
              <a:latin typeface="Tw Cen MT"/>
            </a:endParaRPr>
          </a:p>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2760" indent="-302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ike any form of writing, a feature article follows a standard structure. A feature article should always include: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headline;</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ead paragraph &amp; by-line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ody paragraphs;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suitable image; and</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concluding paragraph.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0" name=""/>
          <p:cNvSpPr txBox="1"/>
          <p:nvPr/>
        </p:nvSpPr>
        <p:spPr>
          <a:xfrm>
            <a:off x="609120" y="2437920"/>
            <a:ext cx="3886200" cy="3581640"/>
          </a:xfrm>
          <a:prstGeom prst="rect">
            <a:avLst/>
          </a:prstGeom>
          <a:noFill/>
          <a:ln w="0">
            <a:noFill/>
          </a:ln>
        </p:spPr>
        <p:txBody>
          <a:bodyPr anchor="t">
            <a:normAutofit fontScale="89000"/>
          </a:bodyPr>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headline performs some important functions. An effective headlin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Grabs readers’ attention and persuades them to read the articl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Highlights the main idea of the articl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Includes keywords.</a:t>
            </a: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1" name=""/>
          <p:cNvSpPr txBox="1"/>
          <p:nvPr/>
        </p:nvSpPr>
        <p:spPr>
          <a:xfrm>
            <a:off x="4572000" y="1785960"/>
            <a:ext cx="4572000" cy="4643280"/>
          </a:xfrm>
          <a:prstGeom prst="rect">
            <a:avLst/>
          </a:prstGeom>
          <a:noFill/>
          <a:ln w="0">
            <a:noFill/>
          </a:ln>
        </p:spPr>
        <p:txBody>
          <a:bodyPr anchor="t">
            <a:normAutofit fontScale="90000"/>
          </a:bodyPr>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comic"/>
              </a:rPr>
              <a:t>Method in his Madness!</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92d050"/>
                </a:solidFill>
                <a:latin typeface="Arial Black"/>
              </a:rPr>
              <a:t>Richard the Great?</a:t>
            </a:r>
            <a:endParaRPr b="0" lang="en-US" sz="29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b0f0"/>
                </a:solidFill>
                <a:latin typeface="Forte"/>
              </a:rPr>
              <a:t>Women...What Women?</a:t>
            </a: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Script MT Bold"/>
                <a:hlinkClick r:id="rId1"/>
              </a:rPr>
              <a:t>The </a:t>
            </a:r>
            <a:r>
              <a:rPr b="0" lang="en-AU" sz="2900" spc="-1" strike="noStrike" u="sng">
                <a:solidFill>
                  <a:srgbClr val="f7b615"/>
                </a:solidFill>
                <a:uFillTx/>
                <a:latin typeface="Script MT Bold"/>
                <a:hlinkClick r:id="rId2"/>
              </a:rPr>
              <a:t>Machiavellian</a:t>
            </a:r>
            <a:r>
              <a:rPr b="0" lang="en-AU" sz="2900" spc="-1" strike="noStrike" u="sng">
                <a:solidFill>
                  <a:srgbClr val="f7b615"/>
                </a:solidFill>
                <a:uFillTx/>
                <a:latin typeface="Script MT Bold"/>
                <a:hlinkClick r:id="rId3"/>
              </a:rPr>
              <a:t> Villain?</a:t>
            </a: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Tw Cen MT"/>
              </a:rPr>
              <a:t>It's About Me as an American Actor </a:t>
            </a:r>
            <a:endParaRPr b="0" lang="en-US" sz="2400" spc="-1" strike="noStrike">
              <a:solidFill>
                <a:srgbClr val="000000"/>
              </a:solidFill>
              <a:latin typeface="Tw Cen MT"/>
            </a:endParaRPr>
          </a:p>
        </p:txBody>
      </p:sp>
      <p:sp>
        <p:nvSpPr>
          <p:cNvPr id="37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Headlin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4" name=""/>
          <p:cNvSpPr txBox="1"/>
          <p:nvPr/>
        </p:nvSpPr>
        <p:spPr>
          <a:xfrm>
            <a:off x="609120" y="1785600"/>
            <a:ext cx="3886200" cy="4233960"/>
          </a:xfrm>
          <a:prstGeom prst="rect">
            <a:avLst/>
          </a:prstGeom>
          <a:noFill/>
          <a:ln w="0">
            <a:noFill/>
          </a:ln>
        </p:spPr>
        <p:txBody>
          <a:bodyPr anchor="t">
            <a:normAutofit fontScale="91000"/>
          </a:bodyPr>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Imprint MT Shadow"/>
              </a:rPr>
              <a:t>Rowan Templeton challenges...</a:t>
            </a: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70c0"/>
                </a:solidFill>
                <a:latin typeface="Bradley Hand ITC"/>
              </a:rPr>
              <a:t>Investigative journalist Bruce Webber explores...</a:t>
            </a: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70de6"/>
                </a:solidFill>
                <a:latin typeface="Britannic Bold"/>
              </a:rPr>
              <a:t>Undercover exposé by literary critic Tina Jones...</a:t>
            </a: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w Cen MT"/>
              </a:rPr>
              <a:t>Brian Smith reporting...</a:t>
            </a:r>
            <a:endParaRPr b="0" lang="en-US" sz="2400" spc="-1" strike="noStrike">
              <a:solidFill>
                <a:srgbClr val="000000"/>
              </a:solidFill>
              <a:latin typeface="Tw Cen MT"/>
            </a:endParaRPr>
          </a:p>
        </p:txBody>
      </p:sp>
      <p:sp>
        <p:nvSpPr>
          <p:cNvPr id="375" name=""/>
          <p:cNvSpPr txBox="1"/>
          <p:nvPr/>
        </p:nvSpPr>
        <p:spPr>
          <a:xfrm>
            <a:off x="4800240" y="2437920"/>
            <a:ext cx="3886200" cy="3581640"/>
          </a:xfrm>
          <a:prstGeom prst="rect">
            <a:avLst/>
          </a:prstGeom>
          <a:noFill/>
          <a:ln w="0">
            <a:noFill/>
          </a:ln>
        </p:spPr>
        <p:txBody>
          <a:bodyPr anchor="t">
            <a:normAutofit fontScale="87000"/>
          </a:bodyPr>
          <a:p>
            <a:pPr marL="276120" indent="-27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y-lines tell who wrote an article. They are a small element in the design of books, magazines, newspapers or newsletters, but certainly important to the author. In some cases, by-lines may be used to give credit for photographs or illustrations.</a:t>
            </a:r>
            <a:endParaRPr b="0" lang="en-US" sz="2400" spc="-1" strike="noStrike">
              <a:solidFill>
                <a:srgbClr val="000000"/>
              </a:solidFill>
              <a:latin typeface="Tw Cen MT"/>
            </a:endParaRPr>
          </a:p>
        </p:txBody>
      </p:sp>
      <p:sp>
        <p:nvSpPr>
          <p:cNvPr id="376" name="PlaceHolder 2"/>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By-Lin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6:01:47Z</dcterms:created>
  <dc:creator>user</dc:creator>
  <dc:description/>
  <dc:language>en-US</dc:language>
  <cp:lastModifiedBy>user</cp:lastModifiedBy>
  <dcterms:modified xsi:type="dcterms:W3CDTF">2010-06-07T07:22:25Z</dcterms:modified>
  <cp:revision>13</cp:revision>
  <dc:subject/>
  <dc:title>Feature Articles</dc:title>
</cp:coreProperties>
</file>